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9B4-06BB-4EF9-A83E-EDBEDDD8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463-5CCD-44EE-8829-A0E5BFCE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546-C5B4-488C-A11E-637F0094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7CD-9DC1-4F86-A898-1437696F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66B-F754-45B8-B548-000DFF22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954-5305-4080-A527-3009083E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34C-0C96-47EB-8AA0-FDB5499B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F7F-D2FB-41D0-A8FF-289049D9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805-305B-4823-8564-89A699AC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60F8-1461-457B-A264-18507A41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95D-AA42-4501-8662-7819FD00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924-5542-41E1-B8A1-D7BAA301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2BAF-979B-4725-9601-14A251EC7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commons/b/bf/PortHacking-Sydney-Ria.jpg&amp;imgrefurl=http://commons.wikimedia.org/wiki/File:PortHacking-Sydney-Ria.jpg&amp;usg=__5jN3TljQlr4oIXfLq4UPz8F3amI=&amp;h=511&amp;w=768&amp;sz=178&amp;hl=en&amp;start=5&amp;tbnid=9ndxeuaMB7BnMM:&amp;tbnh=94&amp;tbnw=142&amp;prev=/images%3Fq%3Dthe%2Bport%2Bhacking%2Briver%26gbv%3D2%26hl%3De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476280"/>
            <a:ext cx="756000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OBLEMS WITH TH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RT HACK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V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4000" y="5661000"/>
            <a:ext cx="84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Y EMMA AND ELLA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716280"/>
            <a:ext cx="2376360" cy="157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372360" y="3716280"/>
            <a:ext cx="23763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ROBLEM,HOPE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 AND SOLUTION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Organic chemicals are killing more than they are supposed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: Chemicals are not allowed to kill any more than they are supposed to 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: They put filters in the dumps so that no rubbish is washed into the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ROBLEM HOPE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AND SOLUTION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Sand in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: That the river can flow easily and dee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: the council have stricter rules about people building ho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PROBLEM,HOPE </a:t>
            </a:r>
            <a:br>
              <a:rPr sz="5400"/>
            </a:b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AND SOLUTION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: Runoff from horse farm, a zoo and sewage overf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: The people who own the company do something abou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: To build big tanks so none of the sewage get into the Port Hacking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000000"/>
            </a:gs>
            <a:gs pos="100000">
              <a:srgbClr val="00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Conclus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can see by all of these problems, we need to be more careful about what we are doing to the Port Hacking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VI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oner or later their will be more of everything, more boats, tourist and jet skies. Would you like to have a peaceful pick nick or a noisy night sl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6:28:27Z</dcterms:created>
  <dc:creator>News Limited</dc:creator>
  <dc:description/>
  <dc:language>en-US</dc:language>
  <cp:lastModifiedBy>emma.rothfield</cp:lastModifiedBy>
  <dcterms:modified xsi:type="dcterms:W3CDTF">2009-05-15T04:34:47Z</dcterms:modified>
  <cp:revision>4</cp:revision>
  <dc:subject/>
  <dc:title>Slide 1</dc:title>
</cp:coreProperties>
</file>